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5115-D246-49A6-8941-5A51E7AF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AC3-EA3C-4DFE-B229-81EA5963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D1A-839B-4938-B6A7-D5627BF9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F44-38D8-49FC-851A-F7A29CFB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B795-7D7E-4DCC-A247-B0A63E59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50B9-EA37-4237-BC9A-BD3CB779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A8D2-3D8C-4C90-B535-29FA1BE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8C42-BEA4-4607-897C-B2E86F4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02B1-6FB5-492B-A51C-C209D72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E01D-90F8-4032-A4B0-B0B2B43A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EC78-4A15-4858-808D-53B68C9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D1D-FF18-44B3-ADDB-46438B85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C0EA-B24E-40A3-A94F-98912CF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B67E-0A53-4F7A-835F-6F175DF9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CD48-F1CE-4D82-87E8-FA27B4F6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1A3C-B8B1-4A92-937A-5C0558FE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9A3-8F5E-466F-8C5A-419B1F76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04F-F9D3-435D-AA46-B2E75BD2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EA3-F500-435D-A4DD-05652D9F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655-0378-4124-A769-74DDE549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D48D-BFE4-4E48-8982-AAB1E9D4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A5C-1D97-47CB-A47C-C7BBB72F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FF9-D376-4B92-BF8E-F19E0C36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238-6632-4D86-B532-F119FA5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051-5340-4153-ACB9-5CB9DCEBE7F8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8566-2F34-463C-A4B5-951C0A6DC756}" type="slidenum">
              <a:rPr b="0" lang="fi-FI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iirtotyökalujen käyttö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680" y="1447920"/>
            <a:ext cx="3200400" cy="3886200"/>
            <a:chOff x="3352680" y="1447920"/>
            <a:chExt cx="3200400" cy="3886200"/>
          </a:xfrm>
        </p:grpSpPr>
        <p:sp>
          <p:nvSpPr>
            <p:cNvPr id="102" name=""/>
            <p:cNvSpPr/>
            <p:nvPr/>
          </p:nvSpPr>
          <p:spPr>
            <a:xfrm>
              <a:off x="3429000" y="4114800"/>
              <a:ext cx="1981080" cy="1219320"/>
            </a:xfrm>
            <a:prstGeom prst="rect">
              <a:avLst/>
            </a:prstGeom>
            <a:solidFill>
              <a:srgbClr val="ff505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000" y="2666880"/>
              <a:ext cx="1828800" cy="1447920"/>
            </a:xfrm>
            <a:prstGeom prst="smileyFace">
              <a:avLst>
                <a:gd name="adj" fmla="val 9282"/>
              </a:avLst>
            </a:prstGeom>
            <a:solidFill>
              <a:srgbClr val="99ff99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080" y="1447920"/>
              <a:ext cx="1887480" cy="2611440"/>
            </a:xfrm>
            <a:custGeom>
              <a:avLst/>
              <a:gdLst/>
              <a:ahLst/>
              <a:rect l="l" t="t" r="r" b="b"/>
              <a:pathLst>
                <a:path w="1189" h="1645">
                  <a:moveTo>
                    <a:pt x="0" y="79"/>
                  </a:moveTo>
                  <a:cubicBezTo>
                    <a:pt x="89" y="19"/>
                    <a:pt x="105" y="24"/>
                    <a:pt x="222" y="12"/>
                  </a:cubicBezTo>
                  <a:cubicBezTo>
                    <a:pt x="278" y="17"/>
                    <a:pt x="344" y="0"/>
                    <a:pt x="389" y="34"/>
                  </a:cubicBezTo>
                  <a:cubicBezTo>
                    <a:pt x="423" y="59"/>
                    <a:pt x="446" y="96"/>
                    <a:pt x="478" y="123"/>
                  </a:cubicBezTo>
                  <a:cubicBezTo>
                    <a:pt x="535" y="170"/>
                    <a:pt x="597" y="212"/>
                    <a:pt x="656" y="256"/>
                  </a:cubicBezTo>
                  <a:cubicBezTo>
                    <a:pt x="681" y="275"/>
                    <a:pt x="697" y="305"/>
                    <a:pt x="722" y="323"/>
                  </a:cubicBezTo>
                  <a:cubicBezTo>
                    <a:pt x="749" y="342"/>
                    <a:pt x="782" y="350"/>
                    <a:pt x="811" y="367"/>
                  </a:cubicBezTo>
                  <a:cubicBezTo>
                    <a:pt x="827" y="376"/>
                    <a:pt x="841" y="390"/>
                    <a:pt x="856" y="401"/>
                  </a:cubicBezTo>
                  <a:cubicBezTo>
                    <a:pt x="906" y="550"/>
                    <a:pt x="834" y="374"/>
                    <a:pt x="989" y="556"/>
                  </a:cubicBezTo>
                  <a:cubicBezTo>
                    <a:pt x="1004" y="574"/>
                    <a:pt x="1004" y="601"/>
                    <a:pt x="1011" y="623"/>
                  </a:cubicBezTo>
                  <a:cubicBezTo>
                    <a:pt x="1017" y="865"/>
                    <a:pt x="908" y="1074"/>
                    <a:pt x="1122" y="1145"/>
                  </a:cubicBezTo>
                  <a:cubicBezTo>
                    <a:pt x="1131" y="1275"/>
                    <a:pt x="1132" y="1530"/>
                    <a:pt x="1189" y="1645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4038480"/>
              <a:ext cx="533160" cy="457200"/>
            </a:xfrm>
            <a:prstGeom prst="donut">
              <a:avLst>
                <a:gd name="adj" fmla="val 25000"/>
              </a:avLst>
            </a:prstGeom>
            <a:solidFill>
              <a:srgbClr val="99ff99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52680" y="1600200"/>
              <a:ext cx="1828800" cy="1066680"/>
            </a:xfrm>
            <a:prstGeom prst="triangle">
              <a:avLst>
                <a:gd name="adj" fmla="val 50000"/>
              </a:avLst>
            </a:prstGeom>
            <a:solidFill>
              <a:srgbClr val="ff5050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89548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ino Ahertaja 18.3.200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2:00:09Z</dcterms:created>
  <dc:creator>atk</dc:creator>
  <dc:description/>
  <dc:language>en-US</dc:language>
  <cp:lastModifiedBy>Kurssi</cp:lastModifiedBy>
  <dcterms:modified xsi:type="dcterms:W3CDTF">2003-02-17T11:19:12Z</dcterms:modified>
  <cp:revision>5</cp:revision>
  <dc:subject/>
  <dc:title>Ei dian otsikkoa</dc:title>
</cp:coreProperties>
</file>